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5D7E-5694-4426-A9EC-3955603BC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13B8-7374-4559-A8F2-F4567FADC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7D8-458A-4459-8EEE-BCD095002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 Waveforms on BHF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w know depth ~2.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HHF/BAVH  12/4/2011   to  25/1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PRH/BEVW  29/6/2011  to  23/1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KL1              7/4/2011  to   9/4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4655-2045-411E-A0F2-F24B3BE7F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lkestone one is 2009 mag3 – 2007 saturated T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D41-B856-4C74-B6D1-33157557B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5%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55D-2914-46BA-AC59-30A173E5B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7A3-9569-4E14-A850-A5B25205C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 beyond 12 km will be altered by less than 0.1.  For Amatrice the equivalent distance is 20km and for the NEONOR2 data, it is 22 k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3ED-2DDE-45CE-AA14-7C67B0EFD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218-3444-4219-ABFD-D2E02A53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E56-902A-4B1D-A9D5-BDE5CAE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3E4-772F-4241-AA3A-0C12911C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769-1F25-491A-9A48-3A601D15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683-55C3-4809-8866-FE19A5F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202-D9FE-4D80-A019-9CA0C29B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FB6-8ECE-42EB-A771-E920F04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074-D2CE-4257-81AE-687B33B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54D-6DC5-408E-B1E1-ADD9959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A38-77C9-49DD-B16B-41B3659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202-0379-42EB-93CC-B8DC1DE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EB4-F4FB-40B0-A83F-C443335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59E-8153-4E00-8C1D-CA73F3E49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inal_slid mast2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4840" y="106632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inal_slid mast2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final_ppttemplate20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7040" y="5486400"/>
            <a:ext cx="197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rchison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st Mains 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inburgh EH9 3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 0131 667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4840" y="106632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rl@bgs.ac.uk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" y="201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cal magnitudes at short distances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77560" y="3251160"/>
            <a:ext cx="859788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ard Lucket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990099"/>
                </a:solidFill>
                <a:uFillTx/>
                <a:latin typeface="Arial"/>
                <a:hlinkClick r:id="rId1"/>
              </a:rPr>
              <a:t>rrl@bgs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s Ottemöl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s.ottemoller@uib.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an Bapt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bap@bgs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ony Butc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ony.butcher@bristol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9680" y="5495760"/>
            <a:ext cx="1965240" cy="1035360"/>
          </a:xfrm>
          <a:prstGeom prst="rect">
            <a:avLst/>
          </a:prstGeom>
          <a:solidFill>
            <a:srgbClr val="fdf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3862440" y="6135840"/>
            <a:ext cx="1935000" cy="58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6434280" y="6122880"/>
            <a:ext cx="738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295200" y="1114560"/>
            <a:ext cx="839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magnitude scales used in the UK and elsewhere are not suitable to calculate magnitudes from near source amplitude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cularly problematic for small events only recorded by nearby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ddition of an extra, exponential, term results in near source magnitudes agreeing with those at other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ants associated with the new term are different in different 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y a result of a different phase having the highest amplitude near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results in a single scale applicable at all distances that does not change the vast majority of existing catalogue magn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176040" y="861840"/>
            <a:ext cx="32482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itude 2.3 ML earthquake at 02:34 on 1st April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 temporary stations installed April/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8 more events detected, all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ly 2 of these, on 2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2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May, were also recorded at more distant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ity of waveforms suggests a highly repeatable source so locations assumed to b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lackpool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tations_used"/>
          <p:cNvPicPr/>
          <p:nvPr/>
        </p:nvPicPr>
        <p:blipFill>
          <a:blip r:embed="rId1"/>
          <a:srcRect l="0" t="0" r="891" b="0"/>
          <a:stretch/>
        </p:blipFill>
        <p:spPr>
          <a:xfrm>
            <a:off x="3492360" y="861840"/>
            <a:ext cx="2927520" cy="295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lackpool_stations"/>
          <p:cNvPicPr/>
          <p:nvPr/>
        </p:nvPicPr>
        <p:blipFill>
          <a:blip r:embed="rId2"/>
          <a:srcRect l="0" t="0" r="0" b="36687"/>
          <a:stretch/>
        </p:blipFill>
        <p:spPr>
          <a:xfrm>
            <a:off x="5151600" y="3292560"/>
            <a:ext cx="38844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0"/>
          <p:cNvGrpSpPr/>
          <p:nvPr/>
        </p:nvGrpSpPr>
        <p:grpSpPr>
          <a:xfrm>
            <a:off x="1488960" y="2413080"/>
            <a:ext cx="5477040" cy="3749760"/>
            <a:chOff x="1488960" y="2413080"/>
            <a:chExt cx="5477040" cy="3749760"/>
          </a:xfrm>
        </p:grpSpPr>
        <p:pic>
          <p:nvPicPr>
            <p:cNvPr id="141" name="Picture 4" descr="Preese_magnitude_scale.png"/>
            <p:cNvPicPr/>
            <p:nvPr/>
          </p:nvPicPr>
          <p:blipFill>
            <a:blip r:embed="rId1"/>
            <a:srcRect l="1601" t="7380" r="8260" b="0"/>
            <a:stretch/>
          </p:blipFill>
          <p:spPr>
            <a:xfrm>
              <a:off x="1488960" y="2413080"/>
              <a:ext cx="5477040" cy="37497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2" name="5-Point Star 5"/>
            <p:cNvSpPr/>
            <p:nvPr/>
          </p:nvSpPr>
          <p:spPr>
            <a:xfrm>
              <a:off x="2438280" y="3041640"/>
              <a:ext cx="120600" cy="123840"/>
            </a:xfrm>
            <a:custGeom>
              <a:avLst/>
              <a:gdLst/>
              <a:ahLst/>
              <a:rect l="l" t="t" r="r" b="b"/>
              <a:pathLst>
                <a:path w="120627" h="123857">
                  <a:moveTo>
                    <a:pt x="0" y="47309"/>
                  </a:moveTo>
                  <a:lnTo>
                    <a:pt x="46076" y="47309"/>
                  </a:lnTo>
                  <a:lnTo>
                    <a:pt x="60314" y="0"/>
                  </a:lnTo>
                  <a:lnTo>
                    <a:pt x="74551" y="47309"/>
                  </a:lnTo>
                  <a:lnTo>
                    <a:pt x="120627" y="47309"/>
                  </a:lnTo>
                  <a:lnTo>
                    <a:pt x="83351" y="76548"/>
                  </a:lnTo>
                  <a:lnTo>
                    <a:pt x="97589" y="123857"/>
                  </a:lnTo>
                  <a:lnTo>
                    <a:pt x="60314" y="94618"/>
                  </a:lnTo>
                  <a:lnTo>
                    <a:pt x="23038" y="123857"/>
                  </a:lnTo>
                  <a:lnTo>
                    <a:pt x="37276" y="76548"/>
                  </a:lnTo>
                  <a:lnTo>
                    <a:pt x="0" y="4730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5-Point Star 6"/>
            <p:cNvSpPr/>
            <p:nvPr/>
          </p:nvSpPr>
          <p:spPr>
            <a:xfrm>
              <a:off x="5673960" y="4600800"/>
              <a:ext cx="118800" cy="125280"/>
            </a:xfrm>
            <a:custGeom>
              <a:avLst/>
              <a:gdLst/>
              <a:ahLst/>
              <a:rect l="l" t="t" r="r" b="b"/>
              <a:pathLst>
                <a:path w="119040" h="125445">
                  <a:moveTo>
                    <a:pt x="0" y="47916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1" y="47916"/>
                  </a:lnTo>
                  <a:lnTo>
                    <a:pt x="119040" y="47916"/>
                  </a:lnTo>
                  <a:lnTo>
                    <a:pt x="82254" y="77529"/>
                  </a:lnTo>
                  <a:lnTo>
                    <a:pt x="96305" y="125445"/>
                  </a:lnTo>
                  <a:lnTo>
                    <a:pt x="59520" y="95831"/>
                  </a:lnTo>
                  <a:lnTo>
                    <a:pt x="22735" y="125445"/>
                  </a:lnTo>
                  <a:lnTo>
                    <a:pt x="36786" y="77529"/>
                  </a:lnTo>
                  <a:lnTo>
                    <a:pt x="0" y="479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5-Point Star 7"/>
            <p:cNvSpPr/>
            <p:nvPr/>
          </p:nvSpPr>
          <p:spPr>
            <a:xfrm>
              <a:off x="5802480" y="4729320"/>
              <a:ext cx="118800" cy="125280"/>
            </a:xfrm>
            <a:custGeom>
              <a:avLst/>
              <a:gdLst/>
              <a:ahLst/>
              <a:rect l="l" t="t" r="r" b="b"/>
              <a:pathLst>
                <a:path w="119039" h="125444">
                  <a:moveTo>
                    <a:pt x="0" y="47915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0" y="47916"/>
                  </a:lnTo>
                  <a:lnTo>
                    <a:pt x="119039" y="47915"/>
                  </a:lnTo>
                  <a:lnTo>
                    <a:pt x="82254" y="77528"/>
                  </a:lnTo>
                  <a:lnTo>
                    <a:pt x="96304" y="125444"/>
                  </a:lnTo>
                  <a:lnTo>
                    <a:pt x="59520" y="95830"/>
                  </a:lnTo>
                  <a:lnTo>
                    <a:pt x="22735" y="125444"/>
                  </a:lnTo>
                  <a:lnTo>
                    <a:pt x="36785" y="77528"/>
                  </a:lnTo>
                  <a:lnTo>
                    <a:pt x="0" y="479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5-Point Star 8"/>
            <p:cNvSpPr/>
            <p:nvPr/>
          </p:nvSpPr>
          <p:spPr>
            <a:xfrm>
              <a:off x="6115320" y="5131080"/>
              <a:ext cx="118800" cy="125280"/>
            </a:xfrm>
            <a:custGeom>
              <a:avLst/>
              <a:gdLst/>
              <a:ahLst/>
              <a:rect l="l" t="t" r="r" b="b"/>
              <a:pathLst>
                <a:path w="119040" h="125445">
                  <a:moveTo>
                    <a:pt x="0" y="47916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1" y="47916"/>
                  </a:lnTo>
                  <a:lnTo>
                    <a:pt x="119040" y="47916"/>
                  </a:lnTo>
                  <a:lnTo>
                    <a:pt x="82254" y="77529"/>
                  </a:lnTo>
                  <a:lnTo>
                    <a:pt x="96305" y="125445"/>
                  </a:lnTo>
                  <a:lnTo>
                    <a:pt x="59520" y="95831"/>
                  </a:lnTo>
                  <a:lnTo>
                    <a:pt x="22735" y="125445"/>
                  </a:lnTo>
                  <a:lnTo>
                    <a:pt x="36786" y="77529"/>
                  </a:lnTo>
                  <a:lnTo>
                    <a:pt x="0" y="479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5-Point Star 9"/>
            <p:cNvSpPr/>
            <p:nvPr/>
          </p:nvSpPr>
          <p:spPr>
            <a:xfrm>
              <a:off x="5923080" y="4897800"/>
              <a:ext cx="118800" cy="125280"/>
            </a:xfrm>
            <a:custGeom>
              <a:avLst/>
              <a:gdLst/>
              <a:ahLst/>
              <a:rect l="l" t="t" r="r" b="b"/>
              <a:pathLst>
                <a:path w="119039" h="125444">
                  <a:moveTo>
                    <a:pt x="0" y="47915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0" y="47916"/>
                  </a:lnTo>
                  <a:lnTo>
                    <a:pt x="119039" y="47915"/>
                  </a:lnTo>
                  <a:lnTo>
                    <a:pt x="82254" y="77528"/>
                  </a:lnTo>
                  <a:lnTo>
                    <a:pt x="96304" y="125444"/>
                  </a:lnTo>
                  <a:lnTo>
                    <a:pt x="59520" y="95830"/>
                  </a:lnTo>
                  <a:lnTo>
                    <a:pt x="22735" y="125444"/>
                  </a:lnTo>
                  <a:lnTo>
                    <a:pt x="36785" y="77528"/>
                  </a:lnTo>
                  <a:lnTo>
                    <a:pt x="0" y="479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>
            <a:off x="210600" y="925560"/>
            <a:ext cx="8722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BHHF was recording data suitable for amplitude measurement by end of M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y 22:35  BHHF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3  regional stations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y 00:48  BHHF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.6  regional stations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trust magnitudes only recorded on nearby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-4176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gnitud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630360" y="5899320"/>
            <a:ext cx="7416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traffic light monitoring system. ‘Stop’ limit set a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 (www.gov.u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uk-traffic.jpg"/>
          <p:cNvPicPr/>
          <p:nvPr/>
        </p:nvPicPr>
        <p:blipFill>
          <a:blip r:embed="rId1"/>
          <a:stretch/>
        </p:blipFill>
        <p:spPr>
          <a:xfrm>
            <a:off x="698400" y="378000"/>
            <a:ext cx="76932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rcRect l="5318" t="3144" r="186" b="0"/>
          <a:stretch/>
        </p:blipFill>
        <p:spPr>
          <a:xfrm>
            <a:off x="17640" y="622440"/>
            <a:ext cx="4214520" cy="62262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4482000" y="1744560"/>
            <a:ext cx="45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2 UK earthquakes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plitudes measured on 5 or more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 least 1 station closer than 20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480560" y="3205080"/>
            <a:ext cx="42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Manchester (2002) aftersh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 from the Borders sequence (20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from Blackpool (20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New Ollerton mining events (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7 others close to a station (1993-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56080" y="541980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53  Amplitudes from earthquakes with magnitude 0.6 ML to 3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23920" y="1108080"/>
            <a:ext cx="8578800" cy="565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ation Magnitud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5"/>
          <p:cNvGrpSpPr/>
          <p:nvPr/>
        </p:nvGrpSpPr>
        <p:grpSpPr>
          <a:xfrm>
            <a:off x="215640" y="2529000"/>
            <a:ext cx="6283080" cy="4230720"/>
            <a:chOff x="215640" y="2529000"/>
            <a:chExt cx="6283080" cy="4230720"/>
          </a:xfrm>
        </p:grpSpPr>
        <p:pic>
          <p:nvPicPr>
            <p:cNvPr id="159" name="Picture 3" descr=""/>
            <p:cNvPicPr/>
            <p:nvPr/>
          </p:nvPicPr>
          <p:blipFill>
            <a:blip r:embed="rId1"/>
            <a:srcRect l="0" t="19087" r="70630" b="19160"/>
            <a:stretch/>
          </p:blipFill>
          <p:spPr>
            <a:xfrm rot="5400000">
              <a:off x="1241640" y="1502640"/>
              <a:ext cx="4230720" cy="62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4"/>
            <p:cNvSpPr/>
            <p:nvPr/>
          </p:nvSpPr>
          <p:spPr>
            <a:xfrm>
              <a:off x="5432400" y="2827440"/>
              <a:ext cx="53640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9"/>
          <p:cNvSpPr/>
          <p:nvPr/>
        </p:nvSpPr>
        <p:spPr>
          <a:xfrm>
            <a:off x="1346400" y="1636560"/>
            <a:ext cx="490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distance (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11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0.00185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tton and Boore, 198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-1.16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499080" y="4125960"/>
            <a:ext cx="2403720" cy="642600"/>
            <a:chOff x="6499080" y="4125960"/>
            <a:chExt cx="2403720" cy="642600"/>
          </a:xfrm>
        </p:grpSpPr>
        <p:sp>
          <p:nvSpPr>
            <p:cNvPr id="163" name="TextBox 10"/>
            <p:cNvSpPr/>
            <p:nvPr/>
          </p:nvSpPr>
          <p:spPr>
            <a:xfrm>
              <a:off x="6499080" y="4125960"/>
              <a:ext cx="240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MS res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.33      0.2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ight Arrow 12"/>
            <p:cNvSpPr/>
            <p:nvPr/>
          </p:nvSpPr>
          <p:spPr>
            <a:xfrm>
              <a:off x="7126200" y="4476960"/>
              <a:ext cx="225360" cy="18900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w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2" descr=""/>
          <p:cNvPicPr/>
          <p:nvPr/>
        </p:nvPicPr>
        <p:blipFill>
          <a:blip r:embed="rId2"/>
          <a:stretch/>
        </p:blipFill>
        <p:spPr>
          <a:xfrm>
            <a:off x="212760" y="950760"/>
            <a:ext cx="86202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ontent Placeholder 3" descr=""/>
          <p:cNvPicPr/>
          <p:nvPr/>
        </p:nvPicPr>
        <p:blipFill>
          <a:blip r:embed="rId1"/>
          <a:srcRect l="0" t="0" r="0" b="5812"/>
          <a:stretch/>
        </p:blipFill>
        <p:spPr>
          <a:xfrm>
            <a:off x="4716360" y="3973680"/>
            <a:ext cx="4319640" cy="28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0" r="0" b="6104"/>
          <a:stretch/>
        </p:blipFill>
        <p:spPr>
          <a:xfrm>
            <a:off x="66600" y="3973680"/>
            <a:ext cx="4321080" cy="28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79200" y="569880"/>
            <a:ext cx="4319640" cy="305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4780080" y="569880"/>
            <a:ext cx="4319640" cy="3051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152280" y="20520"/>
            <a:ext cx="88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ONOR2 deployment in Northern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664 amplitudes  from 617 earthquakes with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L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0.4 and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0" y="338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trice aftersh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45 observations from 287 earthquakes with ML between 0.4 and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2741400" y="2744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439040" y="2744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741400" y="615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7423200" y="615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239880" y="873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-0.74, D=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6165000" y="4113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-3.05, D=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6"/>
          <p:cNvGrpSpPr/>
          <p:nvPr/>
        </p:nvGrpSpPr>
        <p:grpSpPr>
          <a:xfrm>
            <a:off x="4660920" y="3510000"/>
            <a:ext cx="3490920" cy="2822400"/>
            <a:chOff x="4660920" y="3510000"/>
            <a:chExt cx="3490920" cy="2822400"/>
          </a:xfrm>
        </p:grpSpPr>
        <p:grpSp>
          <p:nvGrpSpPr>
            <p:cNvPr id="180" name="Group 17"/>
            <p:cNvGrpSpPr/>
            <p:nvPr/>
          </p:nvGrpSpPr>
          <p:grpSpPr>
            <a:xfrm>
              <a:off x="4660920" y="3510000"/>
              <a:ext cx="3490920" cy="2822400"/>
              <a:chOff x="4660920" y="3510000"/>
              <a:chExt cx="3490920" cy="2822400"/>
            </a:xfrm>
          </p:grpSpPr>
          <p:pic>
            <p:nvPicPr>
              <p:cNvPr id="181" name="Picture 19" descr=""/>
              <p:cNvPicPr/>
              <p:nvPr/>
            </p:nvPicPr>
            <p:blipFill>
              <a:blip r:embed="rId1"/>
              <a:srcRect l="62763" t="0" r="5470" b="31725"/>
              <a:stretch/>
            </p:blipFill>
            <p:spPr>
              <a:xfrm>
                <a:off x="4858200" y="3510000"/>
                <a:ext cx="3293640" cy="28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0"/>
              <p:cNvSpPr/>
              <p:nvPr/>
            </p:nvSpPr>
            <p:spPr>
              <a:xfrm>
                <a:off x="4829040" y="3774960"/>
                <a:ext cx="395280" cy="33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1"/>
              <p:cNvSpPr/>
              <p:nvPr/>
            </p:nvSpPr>
            <p:spPr>
              <a:xfrm>
                <a:off x="4660920" y="5676840"/>
                <a:ext cx="3952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8"/>
            <p:cNvSpPr/>
            <p:nvPr/>
          </p:nvSpPr>
          <p:spPr>
            <a:xfrm>
              <a:off x="5403600" y="4786200"/>
              <a:ext cx="826920" cy="83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11" descr=""/>
          <p:cNvPicPr/>
          <p:nvPr/>
        </p:nvPicPr>
        <p:blipFill>
          <a:blip r:embed="rId2"/>
          <a:srcRect l="8680" t="10213" r="8047" b="4397"/>
          <a:stretch/>
        </p:blipFill>
        <p:spPr>
          <a:xfrm>
            <a:off x="106200" y="252360"/>
            <a:ext cx="3803760" cy="641052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5"/>
          <p:cNvSpPr/>
          <p:nvPr/>
        </p:nvSpPr>
        <p:spPr>
          <a:xfrm>
            <a:off x="696960" y="522612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1054080" y="1176480"/>
            <a:ext cx="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rcRect l="5616" t="8670" r="7616" b="0"/>
          <a:stretch/>
        </p:blipFill>
        <p:spPr>
          <a:xfrm>
            <a:off x="4425840" y="31680"/>
            <a:ext cx="4407120" cy="34783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204840" y="42876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214200" y="23493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204840" y="427212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5710320" y="634824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Myers, et al (19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476640" y="5527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812880" y="1481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13:52Z</dcterms:created>
  <dc:creator>rrl</dc:creator>
  <dc:description/>
  <dc:language>en-US</dc:language>
  <cp:lastModifiedBy>rrl</cp:lastModifiedBy>
  <dcterms:modified xsi:type="dcterms:W3CDTF">2017-04-05T08:26:30Z</dcterms:modified>
  <cp:revision>492</cp:revision>
  <dc:subject/>
  <dc:title>Slide 1</dc:title>
</cp:coreProperties>
</file>